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2.gif" ContentType="image/gif"/>
  <Override PartName="/ppt/media/image15.png" ContentType="image/png"/>
  <Override PartName="/ppt/media/image10.gif" ContentType="image/gif"/>
  <Override PartName="/ppt/media/image9.png" ContentType="image/png"/>
  <Override PartName="/ppt/media/image6.gif" ContentType="image/gif"/>
  <Override PartName="/ppt/media/camera.wav" ContentType="audio/x-wav"/>
  <Override PartName="/ppt/media/image8.gif" ContentType="image/gi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3.gif" ContentType="image/gif"/>
  <Override PartName="/ppt/media/image16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4.png" ContentType="image/png"/>
  <Override PartName="/ppt/media/image11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2E3B-AADA-45AF-B557-ED894020C0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e is a three dimensional solid with a circular base and a curved surface that gradually narrows to a vert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e is a three dimensional solid with a circular base and a curved surface that gradually narrows to a vert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the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5(26.7)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13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9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the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5(26.7)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13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9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1, 2, 3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39 – 441    # 1, 2, 3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llenging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6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1, 2, 3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39 – 441    # 1, 2, 3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llenging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6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a cylinder with a radius r=1 m and height h=2 m. Find the volume of a cone with a radius r=1 m and height h=1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ylinder  = base x height             =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.28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   = (1/3)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/3)(3.14)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.09 m3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a cylinder with a radius r=1 m and height h=2 m. Find the volume of a cone with a radius r=1 m and height h=1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ylinder  = base x height             =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.28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   = (1/3)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/3)(3.14)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.09 m3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area of a cone with a radius r=3 m and height h=4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Pythagorean  Theorem to find 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r2 + h2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(3)2 + (4)2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25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pr2 + p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3)2 + 3.14(3)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75.36 m2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the radius       h = the height       l  = the slant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area of a cone with a radius r=3 m and height h=4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Pythagorean  Theorem to find 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r2 + h2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(3)2 + (4)2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25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pr2 + p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3)2 + 3.14(3)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75.36 m2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the radius       h = the height       l  = the slant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21 - 422    # 2a, 3b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39 – 441    # 2abcd, 3, 4c, 5ab, 10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21 - 422    # 2a, 3b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39 – 441    # 2abcd, 3, 4c, 5ab, 10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yramid is a three dimensional figure with a regular polygon as its base and lateral faces are identical isosceles triangles meeting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quadr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pen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hep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cal 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yramid is a three dimensional figure with a regular polygon as its base and lateral faces are identical isosceles triangles meeting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quadr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pen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hep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cal 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rea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 = 1/3 x 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rea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 = 1/3 x 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the pyramid.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= 1/3 (area of base)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/3 ( 60m2)(8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60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the pyramid.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= 1/3 (area of base)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/3 ( 60m2)(8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60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rea of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 (area of one lateral 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entagon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is th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rea of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 (area of one lateral 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entagon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is th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                   = ½ base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are the lateral si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h2 + a2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2 + 42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= 8.9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! the height of the triangle is the slant height ”l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6)(8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6.7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                   = ½ base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are the lateral si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h2 + a2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2 + 42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= 8.9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! the height of the triangle is the slant height ”l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6)(8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6.7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A86-CDED-450E-AAAB-7A0F4591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BB4C-E098-404F-97AB-E0FDF561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302-25E7-42E2-A161-49CBD21F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4DAB-56BA-45E2-A262-10B6C91E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AA0-7A7C-422B-9738-73C9E7D4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B5DD-E3CF-41A6-BF52-8FCD6652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14FA-7E49-4FB6-A3C1-B30DDEE8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223-67B1-472D-A36E-CD3055CC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E8FA-34B5-4099-B784-57CE36B9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54E-99C3-48F0-B867-CE055846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3C6-CF42-42A8-A8E1-0AFF9437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976-446A-4A26-9E7F-F3A1D6F4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B779-AEA5-4A77-86A0-A9791325C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1920" y="6593040"/>
            <a:ext cx="20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8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"/>
          <p:cNvSpPr/>
          <p:nvPr/>
        </p:nvSpPr>
        <p:spPr>
          <a:xfrm>
            <a:off x="2895480" y="152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e C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27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36"/>
          <p:cNvGraphicFramePr/>
          <p:nvPr/>
        </p:nvGraphicFramePr>
        <p:xfrm>
          <a:off x="990720" y="838080"/>
          <a:ext cx="6400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6400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37"/>
          <p:cNvSpPr/>
          <p:nvPr/>
        </p:nvSpPr>
        <p:spPr>
          <a:xfrm>
            <a:off x="914400" y="914400"/>
            <a:ext cx="43434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33"/>
                </a:solidFill>
                <a:latin typeface="Comic Sans MS"/>
              </a:rPr>
              <a:t>A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one</a:t>
            </a:r>
            <a:r>
              <a:rPr b="0" lang="en-US" sz="18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33"/>
                </a:solidFill>
                <a:latin typeface="Comic Sans MS"/>
              </a:rPr>
              <a:t>is a three dimensional solid with a circular base and a curved surface that gradually narrows to a vertex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914400" y="4038480"/>
            <a:ext cx="3657600" cy="1326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Volume of a C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53"/>
          <p:cNvGraphicFramePr/>
          <p:nvPr/>
        </p:nvGraphicFramePr>
        <p:xfrm>
          <a:off x="990720" y="5562720"/>
          <a:ext cx="156204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562720"/>
                    <a:ext cx="15620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54"/>
          <p:cNvGraphicFramePr/>
          <p:nvPr/>
        </p:nvGraphicFramePr>
        <p:xfrm>
          <a:off x="1219320" y="4419720"/>
          <a:ext cx="306684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5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419720"/>
                    <a:ext cx="30668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56"/>
          <p:cNvGraphicFramePr/>
          <p:nvPr/>
        </p:nvGraphicFramePr>
        <p:xfrm>
          <a:off x="838080" y="2590920"/>
          <a:ext cx="9334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5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57"/>
          <p:cNvGraphicFramePr/>
          <p:nvPr/>
        </p:nvGraphicFramePr>
        <p:xfrm>
          <a:off x="2133720" y="2590920"/>
          <a:ext cx="93348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" name="Object 5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58"/>
          <p:cNvGraphicFramePr/>
          <p:nvPr/>
        </p:nvGraphicFramePr>
        <p:xfrm>
          <a:off x="3505320" y="2590920"/>
          <a:ext cx="933480" cy="106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" name="Object 5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59"/>
          <p:cNvGraphicFramePr/>
          <p:nvPr/>
        </p:nvGraphicFramePr>
        <p:xfrm>
          <a:off x="5257800" y="2590920"/>
          <a:ext cx="990720" cy="1104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" name="Object 5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57800" y="2590920"/>
                    <a:ext cx="9907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60"/>
          <p:cNvSpPr/>
          <p:nvPr/>
        </p:nvSpPr>
        <p:spPr>
          <a:xfrm>
            <a:off x="175248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3"/>
          <p:cNvSpPr/>
          <p:nvPr/>
        </p:nvSpPr>
        <p:spPr>
          <a:xfrm>
            <a:off x="312408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4"/>
          <p:cNvSpPr/>
          <p:nvPr/>
        </p:nvSpPr>
        <p:spPr>
          <a:xfrm>
            <a:off x="464832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5" descr="board"/>
          <p:cNvPicPr/>
          <p:nvPr/>
        </p:nvPicPr>
        <p:blipFill>
          <a:blip r:embed="rId15"/>
          <a:stretch/>
        </p:blipFill>
        <p:spPr>
          <a:xfrm>
            <a:off x="6629400" y="4038480"/>
            <a:ext cx="149688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1026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1029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1030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31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032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34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35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36"/>
          <p:cNvSpPr/>
          <p:nvPr/>
        </p:nvSpPr>
        <p:spPr>
          <a:xfrm>
            <a:off x="4572000" y="1447920"/>
            <a:ext cx="4419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rface Area of the Pyra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5(26.7)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133.5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93.5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600200" y="1905120"/>
            <a:ext cx="5334120" cy="24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extbook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21 - 422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1, 2, 3,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39 – 441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1, 2, 3,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Challenging Ques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P. 421 - 422    # 6,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7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8"/>
          <p:cNvSpPr/>
          <p:nvPr/>
        </p:nvSpPr>
        <p:spPr>
          <a:xfrm>
            <a:off x="2895480" y="609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es – Pract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9" descr="ornam3_e0"/>
          <p:cNvPicPr/>
          <p:nvPr/>
        </p:nvPicPr>
        <p:blipFill>
          <a:blip r:embed="rId3"/>
          <a:stretch/>
        </p:blipFill>
        <p:spPr>
          <a:xfrm>
            <a:off x="4038480" y="4648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xmas_tree_8"/>
          <p:cNvPicPr/>
          <p:nvPr/>
        </p:nvPicPr>
        <p:blipFill>
          <a:blip r:embed="rId4"/>
          <a:stretch/>
        </p:blipFill>
        <p:spPr>
          <a:xfrm>
            <a:off x="6934320" y="4343400"/>
            <a:ext cx="1143000" cy="1531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snowman_e0"/>
          <p:cNvPicPr/>
          <p:nvPr/>
        </p:nvPicPr>
        <p:blipFill>
          <a:blip r:embed="rId5"/>
          <a:stretch/>
        </p:blipFill>
        <p:spPr>
          <a:xfrm>
            <a:off x="1371600" y="464832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676520" y="190512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ind the volume of a cylinder with a radius r=1 m and height h=2 m. Find the volume of a cone with a radius r=1 m and height h=1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80880" y="3581280"/>
            <a:ext cx="3657600" cy="230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olume of a Cylinder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base x height             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3.14(1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6.28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3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14"/>
          <p:cNvSpPr/>
          <p:nvPr/>
        </p:nvSpPr>
        <p:spPr>
          <a:xfrm>
            <a:off x="3352680" y="762120"/>
            <a:ext cx="221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xercise #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15"/>
          <p:cNvGraphicFramePr/>
          <p:nvPr/>
        </p:nvGraphicFramePr>
        <p:xfrm>
          <a:off x="457200" y="1905120"/>
          <a:ext cx="93348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17"/>
          <p:cNvSpPr/>
          <p:nvPr/>
        </p:nvSpPr>
        <p:spPr>
          <a:xfrm>
            <a:off x="4952880" y="3581280"/>
            <a:ext cx="3657600" cy="2859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olume of a Cone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(1/3)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(1/3)(3.14)(1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2.09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0" descr="christmas_snow_globe_2"/>
          <p:cNvPicPr/>
          <p:nvPr/>
        </p:nvPicPr>
        <p:blipFill>
          <a:blip r:embed="rId5"/>
          <a:stretch/>
        </p:blipFill>
        <p:spPr>
          <a:xfrm>
            <a:off x="7543800" y="380880"/>
            <a:ext cx="11430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057400" y="15238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ind the area of a cone with a radius r=3 m and height h=4 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57200" y="3733920"/>
            <a:ext cx="3048120" cy="445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the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Pythagorean  Theorem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find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l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= 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+ h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(3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(4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25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6"/>
          <p:cNvGraphicFramePr/>
          <p:nvPr/>
        </p:nvGraphicFramePr>
        <p:xfrm>
          <a:off x="1905120" y="152280"/>
          <a:ext cx="55432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52280"/>
                    <a:ext cx="55432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7"/>
          <p:cNvSpPr/>
          <p:nvPr/>
        </p:nvSpPr>
        <p:spPr>
          <a:xfrm>
            <a:off x="3733920" y="304920"/>
            <a:ext cx="251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urface Area of a C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410080" y="3733920"/>
            <a:ext cx="3581640" cy="2926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Surface Area of a Cone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+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3.14(3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 3.14(3)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75.36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11"/>
          <p:cNvGraphicFramePr/>
          <p:nvPr/>
        </p:nvGraphicFramePr>
        <p:xfrm>
          <a:off x="304920" y="1523880"/>
          <a:ext cx="1771560" cy="19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523880"/>
                    <a:ext cx="177156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13"/>
          <p:cNvSpPr/>
          <p:nvPr/>
        </p:nvSpPr>
        <p:spPr>
          <a:xfrm>
            <a:off x="2057400" y="2590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r = the radius       h = the height       </a:t>
            </a:r>
            <a:r>
              <a:rPr b="0" i="1" lang="en-US" sz="2000" spc="-1" strike="noStrike">
                <a:solidFill>
                  <a:srgbClr val="0099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= the slant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5" descr="mickey2"/>
          <p:cNvPicPr/>
          <p:nvPr/>
        </p:nvPicPr>
        <p:blipFill>
          <a:blip r:embed="rId5"/>
          <a:stretch/>
        </p:blipFill>
        <p:spPr>
          <a:xfrm>
            <a:off x="3886200" y="3886200"/>
            <a:ext cx="13604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1600200" y="2057400"/>
            <a:ext cx="5334120" cy="120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extbook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21 - 422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2a, 3b,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39 – 441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2abcd, 3, 4c, 5ab, 10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3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39"/>
          <p:cNvSpPr/>
          <p:nvPr/>
        </p:nvSpPr>
        <p:spPr>
          <a:xfrm>
            <a:off x="2895480" y="609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es – Pract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1" descr="ornam3_e0"/>
          <p:cNvPicPr/>
          <p:nvPr/>
        </p:nvPicPr>
        <p:blipFill>
          <a:blip r:embed="rId3"/>
          <a:stretch/>
        </p:blipFill>
        <p:spPr>
          <a:xfrm>
            <a:off x="4038480" y="4648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2" descr="xmas_tree_8"/>
          <p:cNvPicPr/>
          <p:nvPr/>
        </p:nvPicPr>
        <p:blipFill>
          <a:blip r:embed="rId4"/>
          <a:stretch/>
        </p:blipFill>
        <p:spPr>
          <a:xfrm>
            <a:off x="6934320" y="4343400"/>
            <a:ext cx="1143000" cy="153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3" descr="snowman_e0"/>
          <p:cNvPicPr/>
          <p:nvPr/>
        </p:nvPicPr>
        <p:blipFill>
          <a:blip r:embed="rId5"/>
          <a:stretch/>
        </p:blipFill>
        <p:spPr>
          <a:xfrm>
            <a:off x="1371600" y="464832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3457440" y="2286000"/>
            <a:ext cx="1932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600200" y="1981080"/>
            <a:ext cx="601992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yram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three dimensional figure with a regular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polygon</a:t>
            </a: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 as its ba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lateral faces are identical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isosceles triang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eeting at a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9"/>
          <p:cNvSpPr/>
          <p:nvPr/>
        </p:nvSpPr>
        <p:spPr>
          <a:xfrm>
            <a:off x="3657600" y="762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18"/>
          <p:cNvGraphicFramePr/>
          <p:nvPr/>
        </p:nvGraphicFramePr>
        <p:xfrm>
          <a:off x="380880" y="4038480"/>
          <a:ext cx="20671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038480"/>
                    <a:ext cx="2067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9"/>
          <p:cNvGraphicFramePr/>
          <p:nvPr/>
        </p:nvGraphicFramePr>
        <p:xfrm>
          <a:off x="3733920" y="4038480"/>
          <a:ext cx="1914480" cy="20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038480"/>
                    <a:ext cx="19144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0"/>
          <p:cNvGraphicFramePr/>
          <p:nvPr/>
        </p:nvGraphicFramePr>
        <p:xfrm>
          <a:off x="6629400" y="4038480"/>
          <a:ext cx="1409760" cy="200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4038480"/>
                    <a:ext cx="140976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21"/>
          <p:cNvSpPr/>
          <p:nvPr/>
        </p:nvSpPr>
        <p:spPr>
          <a:xfrm>
            <a:off x="838080" y="3276720"/>
            <a:ext cx="1981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304920" y="61722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ase = quadr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3733920" y="62485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omic Sans MS"/>
              </a:rPr>
              <a:t>base = pent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6172200" y="6172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base = hept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25"/>
          <p:cNvSpPr/>
          <p:nvPr/>
        </p:nvSpPr>
        <p:spPr>
          <a:xfrm>
            <a:off x="1712880" y="4233960"/>
            <a:ext cx="844560" cy="577800"/>
          </a:xfrm>
          <a:custGeom>
            <a:avLst/>
            <a:gdLst/>
            <a:ahLst/>
            <a:rect l="l" t="t" r="r" b="b"/>
            <a:pathLst>
              <a:path w="532" h="364">
                <a:moveTo>
                  <a:pt x="532" y="0"/>
                </a:moveTo>
                <a:lnTo>
                  <a:pt x="0" y="364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26"/>
          <p:cNvSpPr/>
          <p:nvPr/>
        </p:nvSpPr>
        <p:spPr>
          <a:xfrm>
            <a:off x="1447920" y="4243320"/>
            <a:ext cx="1109520" cy="1119240"/>
          </a:xfrm>
          <a:custGeom>
            <a:avLst/>
            <a:gdLst/>
            <a:ahLst/>
            <a:rect l="l" t="t" r="r" b="b"/>
            <a:pathLst>
              <a:path w="699" h="705">
                <a:moveTo>
                  <a:pt x="699" y="0"/>
                </a:moveTo>
                <a:lnTo>
                  <a:pt x="0" y="705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1600200" y="35053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dentical isosceles tri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457440" y="2286000"/>
            <a:ext cx="1932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600200" y="1828800"/>
            <a:ext cx="5334120" cy="1620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Volume of a Pyramid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V = (1/3) Area of the base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V = (1/3) 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Volume of a Pyramid = 1/3 x Volume of a Pr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9"/>
          <p:cNvSpPr/>
          <p:nvPr/>
        </p:nvSpPr>
        <p:spPr>
          <a:xfrm>
            <a:off x="2895480" y="762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18"/>
          <p:cNvGraphicFramePr/>
          <p:nvPr/>
        </p:nvGraphicFramePr>
        <p:xfrm>
          <a:off x="609480" y="4038480"/>
          <a:ext cx="1200240" cy="15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20024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9"/>
          <p:cNvGraphicFramePr/>
          <p:nvPr/>
        </p:nvGraphicFramePr>
        <p:xfrm>
          <a:off x="2362320" y="4114800"/>
          <a:ext cx="1199880" cy="15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4114800"/>
                    <a:ext cx="11998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0"/>
          <p:cNvGraphicFramePr/>
          <p:nvPr/>
        </p:nvGraphicFramePr>
        <p:xfrm>
          <a:off x="4191120" y="4114800"/>
          <a:ext cx="1199880" cy="151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4114800"/>
                    <a:ext cx="11998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1"/>
          <p:cNvGraphicFramePr/>
          <p:nvPr/>
        </p:nvGraphicFramePr>
        <p:xfrm>
          <a:off x="6400800" y="3962520"/>
          <a:ext cx="1104840" cy="162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3962520"/>
                    <a:ext cx="11048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22"/>
          <p:cNvSpPr/>
          <p:nvPr/>
        </p:nvSpPr>
        <p:spPr>
          <a:xfrm>
            <a:off x="1828800" y="4572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3581280" y="45720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5638680" y="44956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457200" y="1600200"/>
            <a:ext cx="419112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volume of the pyramid.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2670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bas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6"/>
          <p:cNvGraphicFramePr/>
          <p:nvPr/>
        </p:nvGraphicFramePr>
        <p:xfrm>
          <a:off x="1600200" y="152280"/>
          <a:ext cx="554364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7"/>
          <p:cNvSpPr/>
          <p:nvPr/>
        </p:nvSpPr>
        <p:spPr>
          <a:xfrm>
            <a:off x="3124080" y="609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ercise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0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1"/>
          <p:cNvSpPr/>
          <p:nvPr/>
        </p:nvSpPr>
        <p:spPr>
          <a:xfrm>
            <a:off x="22860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81952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4267080" y="320040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Volume = 1/3 (area of base) (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267080" y="3657600"/>
            <a:ext cx="4496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/3 ( 60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(8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267080" y="5181480"/>
            <a:ext cx="39625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5)(6)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9" descr="snowman_e0"/>
          <p:cNvPicPr/>
          <p:nvPr/>
        </p:nvPicPr>
        <p:blipFill>
          <a:blip r:embed="rId5"/>
          <a:stretch/>
        </p:blipFill>
        <p:spPr>
          <a:xfrm>
            <a:off x="7391520" y="182880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4648320" y="1523880"/>
            <a:ext cx="3657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urface Area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area of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+ 5 (area of one lateral f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5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13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14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648320" y="39625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a pentagon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9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4648320" y="32767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hape is the b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4724280" y="4343400"/>
            <a:ext cx="373392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Pa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5)(6)(4)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3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4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7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48320" y="19810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a triangle                   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base (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572000" y="14479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hape are the lateral sid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572000" y="4876920"/>
            <a:ext cx="3733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l 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= 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+ 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8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8.9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724280" y="38862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Attention!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the height of the triangle is the slant height ”</a:t>
            </a:r>
            <a:r>
              <a:rPr b="0" i="1" lang="en-US" sz="2000" spc="-1" strike="noStrike">
                <a:solidFill>
                  <a:srgbClr val="3333ff"/>
                </a:solidFill>
                <a:latin typeface="Comic Sans MS"/>
              </a:rPr>
              <a:t>l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4648320" y="2895480"/>
            <a:ext cx="30477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6)(8.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26.7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02:24:25Z</dcterms:created>
  <dc:creator>Angela Treap</dc:creator>
  <dc:description/>
  <dc:language>en-US</dc:language>
  <cp:lastModifiedBy>RomaK</cp:lastModifiedBy>
  <dcterms:modified xsi:type="dcterms:W3CDTF">2015-09-04T07:39:12Z</dcterms:modified>
  <cp:revision>4</cp:revision>
  <dc:subject/>
  <dc:title>PowerPoint Presentation</dc:title>
</cp:coreProperties>
</file>